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D1E3D-CACD-4FE4-8B49-2BDFD90E6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20E-C4E7-491D-BA84-B99979C4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36D-46D3-4A00-BA89-4951501A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F9F-02FA-49B6-9F93-C76265A6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E74-C5D8-4E17-ABD1-197C8968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B71-66A5-4F41-9AA5-A542EF5B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0F6-44FB-4E8E-AED9-5C224A08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80D-C00A-40F8-90C7-45600198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EA6-B583-4717-9609-27683BD6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01F-929F-442E-8775-90B46494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D20-35E7-40F8-86C4-31DB7C5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76B-2013-40D9-B4DB-1B8ABC9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127-BE13-4E68-8176-7C4A5FF5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9B9A7-0D05-44C7-9B26-0CBDF6ABE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79640" y="720720"/>
            <a:ext cx="792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ідсистема управління користувачами, групами та правами доступу в ІАС “Університе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0" y="4932360"/>
            <a:ext cx="5580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ещака Оксана Володимир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900000"/>
            <a:ext cx="9069480" cy="58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ристувачі — це особи, для яких можливий доступ із деякими пра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рупи користувачів (групи доступу) — визначені в системі групи, котрим призначені різні права. При включенні у групу, користувач автоматично отримує певний рівень пра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ава доступу — список можливих дій з об'єктами сист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6948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пи користу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5560" y="1220760"/>
            <a:ext cx="8175600" cy="57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6948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пи користу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57320" y="1255680"/>
            <a:ext cx="8123040" cy="57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79360"/>
            <a:ext cx="90694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іння користув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03320"/>
            <a:ext cx="7772400" cy="55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279360"/>
            <a:ext cx="90694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іння користув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58840" y="1014480"/>
            <a:ext cx="774072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79360"/>
            <a:ext cx="90694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вління користув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7680" y="1019160"/>
            <a:ext cx="7761240" cy="551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0:20:48Z</dcterms:created>
  <dc:creator/>
  <dc:description/>
  <dc:language>en-US</dc:language>
  <cp:lastModifiedBy/>
  <cp:revision>1</cp:revision>
  <dc:subject/>
  <dc:title/>
</cp:coreProperties>
</file>